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6941913692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6</c:v>
                </c:pt>
                <c:pt idx="5">
                  <c:v>0</c:v>
                </c:pt>
                <c:pt idx="6">
                  <c:v>1</c:v>
                </c:pt>
                <c:pt idx="7">
                  <c:v>5</c:v>
                </c:pt>
                <c:pt idx="8">
                  <c:v>0</c:v>
                </c:pt>
                <c:pt idx="9">
                  <c:v>5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30982367758186</c:v>
                </c:pt>
                <c:pt idx="1">
                  <c:v>4.79596977329975</c:v>
                </c:pt>
                <c:pt idx="2">
                  <c:v>12.8463476070529</c:v>
                </c:pt>
                <c:pt idx="3">
                  <c:v>11.3047858942065</c:v>
                </c:pt>
                <c:pt idx="4">
                  <c:v>7.02267002518892</c:v>
                </c:pt>
                <c:pt idx="5">
                  <c:v>7.02267002518892</c:v>
                </c:pt>
                <c:pt idx="6">
                  <c:v>4.45340050377834</c:v>
                </c:pt>
                <c:pt idx="7">
                  <c:v>5.65239294710327</c:v>
                </c:pt>
                <c:pt idx="8">
                  <c:v>1.37027707808564</c:v>
                </c:pt>
                <c:pt idx="9">
                  <c:v>1.71284634760705</c:v>
                </c:pt>
                <c:pt idx="10">
                  <c:v>1.71284634760705</c:v>
                </c:pt>
                <c:pt idx="11">
                  <c:v>1.37027707808564</c:v>
                </c:pt>
                <c:pt idx="12">
                  <c:v>0.685138539042821</c:v>
                </c:pt>
                <c:pt idx="13">
                  <c:v>0.685138539042821</c:v>
                </c:pt>
                <c:pt idx="14">
                  <c:v>1.54156171284635</c:v>
                </c:pt>
                <c:pt idx="15">
                  <c:v>0.513853904282116</c:v>
                </c:pt>
              </c:numCache>
            </c:numRef>
          </c:val>
        </c:ser>
        <c:gapWidth val="100"/>
        <c:overlap val="0"/>
        <c:axId val="19601480"/>
        <c:axId val="84977569"/>
      </c:barChart>
      <c:catAx>
        <c:axId val="196014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7569"/>
        <c:crossesAt val="0"/>
        <c:auto val="1"/>
        <c:lblAlgn val="ctr"/>
        <c:lblOffset val="100"/>
        <c:noMultiLvlLbl val="0"/>
      </c:catAx>
      <c:valAx>
        <c:axId val="84977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0148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5830407537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1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4130982367758</c:v>
                </c:pt>
                <c:pt idx="1">
                  <c:v>4.3727959697733</c:v>
                </c:pt>
                <c:pt idx="2">
                  <c:v>11.7128463476071</c:v>
                </c:pt>
                <c:pt idx="3">
                  <c:v>10.3073047858942</c:v>
                </c:pt>
                <c:pt idx="4">
                  <c:v>6.40302267002519</c:v>
                </c:pt>
                <c:pt idx="5">
                  <c:v>6.40302267002519</c:v>
                </c:pt>
                <c:pt idx="6">
                  <c:v>4.06045340050378</c:v>
                </c:pt>
                <c:pt idx="7">
                  <c:v>5.1536523929471</c:v>
                </c:pt>
                <c:pt idx="8">
                  <c:v>1.24937027707809</c:v>
                </c:pt>
                <c:pt idx="9">
                  <c:v>1.56171284634761</c:v>
                </c:pt>
                <c:pt idx="10">
                  <c:v>1.56171284634761</c:v>
                </c:pt>
                <c:pt idx="11">
                  <c:v>1.24937027707809</c:v>
                </c:pt>
                <c:pt idx="12">
                  <c:v>0.624685138539043</c:v>
                </c:pt>
                <c:pt idx="13">
                  <c:v>0.624685138539043</c:v>
                </c:pt>
                <c:pt idx="14">
                  <c:v>1.40554156171285</c:v>
                </c:pt>
                <c:pt idx="15">
                  <c:v>0.468513853904282</c:v>
                </c:pt>
              </c:numCache>
            </c:numRef>
          </c:val>
        </c:ser>
        <c:gapWidth val="100"/>
        <c:overlap val="0"/>
        <c:axId val="25648199"/>
        <c:axId val="22478486"/>
      </c:barChart>
      <c:catAx>
        <c:axId val="256481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78486"/>
        <c:crossesAt val="0"/>
        <c:auto val="1"/>
        <c:lblAlgn val="ctr"/>
        <c:lblOffset val="100"/>
        <c:noMultiLvlLbl val="0"/>
      </c:catAx>
      <c:valAx>
        <c:axId val="22478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819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20274654459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</c:v>
                </c:pt>
                <c:pt idx="3">
                  <c:v>1</c:v>
                </c:pt>
                <c:pt idx="4">
                  <c:v>11</c:v>
                </c:pt>
                <c:pt idx="5">
                  <c:v>5</c:v>
                </c:pt>
                <c:pt idx="6">
                  <c:v>0</c:v>
                </c:pt>
                <c:pt idx="7">
                  <c:v>6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2216624685139</c:v>
                </c:pt>
                <c:pt idx="1">
                  <c:v>5.07808564231738</c:v>
                </c:pt>
                <c:pt idx="2">
                  <c:v>13.6020151133501</c:v>
                </c:pt>
                <c:pt idx="3">
                  <c:v>11.9697732997481</c:v>
                </c:pt>
                <c:pt idx="4">
                  <c:v>7.43576826196474</c:v>
                </c:pt>
                <c:pt idx="5">
                  <c:v>7.43576826196474</c:v>
                </c:pt>
                <c:pt idx="6">
                  <c:v>4.71536523929471</c:v>
                </c:pt>
                <c:pt idx="7">
                  <c:v>5.98488664987406</c:v>
                </c:pt>
                <c:pt idx="8">
                  <c:v>1.45088161209068</c:v>
                </c:pt>
                <c:pt idx="9">
                  <c:v>1.81360201511335</c:v>
                </c:pt>
                <c:pt idx="10">
                  <c:v>1.81360201511335</c:v>
                </c:pt>
                <c:pt idx="11">
                  <c:v>1.45088161209068</c:v>
                </c:pt>
                <c:pt idx="12">
                  <c:v>0.72544080604534</c:v>
                </c:pt>
                <c:pt idx="13">
                  <c:v>0.72544080604534</c:v>
                </c:pt>
                <c:pt idx="14">
                  <c:v>1.63224181360202</c:v>
                </c:pt>
                <c:pt idx="15">
                  <c:v>0.544080604534005</c:v>
                </c:pt>
              </c:numCache>
            </c:numRef>
          </c:val>
        </c:ser>
        <c:gapWidth val="100"/>
        <c:overlap val="0"/>
        <c:axId val="46845196"/>
        <c:axId val="43971661"/>
      </c:barChart>
      <c:catAx>
        <c:axId val="468451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71661"/>
        <c:crossesAt val="0"/>
        <c:auto val="1"/>
        <c:lblAlgn val="ctr"/>
        <c:lblOffset val="100"/>
        <c:noMultiLvlLbl val="0"/>
      </c:catAx>
      <c:valAx>
        <c:axId val="43971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4519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4589800443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2"/>
          <c:y val="0.209223847019123"/>
          <c:w val="0.959911308203991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2</c:v>
                </c:pt>
                <c:pt idx="3">
                  <c:v>3</c:v>
                </c:pt>
                <c:pt idx="4">
                  <c:v>0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91438320"/>
        <c:axId val="59470710"/>
      </c:barChart>
      <c:catAx>
        <c:axId val="914383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70710"/>
        <c:crossesAt val="0"/>
        <c:auto val="1"/>
        <c:lblAlgn val="ctr"/>
        <c:lblOffset val="100"/>
        <c:noMultiLvlLbl val="0"/>
      </c:catAx>
      <c:valAx>
        <c:axId val="59470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3832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2558108528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8</c:v>
                </c:pt>
                <c:pt idx="3">
                  <c:v>7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71558333"/>
        <c:axId val="16986131"/>
      </c:barChart>
      <c:catAx>
        <c:axId val="715583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86131"/>
        <c:crossesAt val="0"/>
        <c:auto val="1"/>
        <c:lblAlgn val="ctr"/>
        <c:lblOffset val="100"/>
        <c:noMultiLvlLbl val="0"/>
      </c:catAx>
      <c:valAx>
        <c:axId val="16986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5833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70023554509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7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389830508474</c:v>
                </c:pt>
                <c:pt idx="1">
                  <c:v>5.6135593220339</c:v>
                </c:pt>
                <c:pt idx="2">
                  <c:v>15.3762711864407</c:v>
                </c:pt>
                <c:pt idx="3">
                  <c:v>13.9118644067797</c:v>
                </c:pt>
                <c:pt idx="4">
                  <c:v>7.32203389830508</c:v>
                </c:pt>
                <c:pt idx="5">
                  <c:v>7.32203389830508</c:v>
                </c:pt>
                <c:pt idx="6">
                  <c:v>3.41694915254237</c:v>
                </c:pt>
                <c:pt idx="7">
                  <c:v>6.83389830508475</c:v>
                </c:pt>
                <c:pt idx="8">
                  <c:v>0.488135593220339</c:v>
                </c:pt>
                <c:pt idx="9">
                  <c:v>0.732203389830508</c:v>
                </c:pt>
                <c:pt idx="10">
                  <c:v>0.488135593220339</c:v>
                </c:pt>
                <c:pt idx="11">
                  <c:v>0.488135593220339</c:v>
                </c:pt>
                <c:pt idx="12">
                  <c:v>0.244067796610169</c:v>
                </c:pt>
                <c:pt idx="13">
                  <c:v>0.244067796610169</c:v>
                </c:pt>
                <c:pt idx="14">
                  <c:v>1.46440677966102</c:v>
                </c:pt>
                <c:pt idx="15">
                  <c:v>1.22033898305085</c:v>
                </c:pt>
              </c:numCache>
            </c:numRef>
          </c:val>
        </c:ser>
        <c:gapWidth val="100"/>
        <c:overlap val="0"/>
        <c:axId val="69288339"/>
        <c:axId val="53257628"/>
      </c:barChart>
      <c:catAx>
        <c:axId val="692883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57628"/>
        <c:crossesAt val="0"/>
        <c:auto val="1"/>
        <c:lblAlgn val="ctr"/>
        <c:lblOffset val="100"/>
        <c:noMultiLvlLbl val="0"/>
      </c:catAx>
      <c:valAx>
        <c:axId val="53257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8833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4</c:v>
                </c:pt>
                <c:pt idx="3">
                  <c:v>3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9</c:v>
                </c:pt>
                <c:pt idx="10">
                  <c:v>6</c:v>
                </c:pt>
                <c:pt idx="11">
                  <c:v>8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72</c:v>
                </c:pt>
                <c:pt idx="1">
                  <c:v>2.72</c:v>
                </c:pt>
                <c:pt idx="2">
                  <c:v>8.16</c:v>
                </c:pt>
                <c:pt idx="3">
                  <c:v>8.16</c:v>
                </c:pt>
                <c:pt idx="4">
                  <c:v>5.44</c:v>
                </c:pt>
                <c:pt idx="5">
                  <c:v>5.44</c:v>
                </c:pt>
                <c:pt idx="6">
                  <c:v>5.44</c:v>
                </c:pt>
                <c:pt idx="7">
                  <c:v>0</c:v>
                </c:pt>
                <c:pt idx="8">
                  <c:v>5.44</c:v>
                </c:pt>
                <c:pt idx="9">
                  <c:v>6.8</c:v>
                </c:pt>
                <c:pt idx="10">
                  <c:v>6.8</c:v>
                </c:pt>
                <c:pt idx="11">
                  <c:v>5.44</c:v>
                </c:pt>
                <c:pt idx="12">
                  <c:v>4.08</c:v>
                </c:pt>
                <c:pt idx="13">
                  <c:v>1.3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712673"/>
        <c:axId val="9514491"/>
      </c:barChart>
      <c:catAx>
        <c:axId val="27126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4491"/>
        <c:crossesAt val="0"/>
        <c:auto val="1"/>
        <c:lblAlgn val="ctr"/>
        <c:lblOffset val="100"/>
        <c:noMultiLvlLbl val="0"/>
      </c:catAx>
      <c:valAx>
        <c:axId val="9514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26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6</c:v>
                </c:pt>
                <c:pt idx="10">
                  <c:v>3</c:v>
                </c:pt>
                <c:pt idx="11">
                  <c:v>7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8</c:v>
                </c:pt>
                <c:pt idx="1">
                  <c:v>2.48</c:v>
                </c:pt>
                <c:pt idx="2">
                  <c:v>7.44</c:v>
                </c:pt>
                <c:pt idx="3">
                  <c:v>7.44</c:v>
                </c:pt>
                <c:pt idx="4">
                  <c:v>4.96</c:v>
                </c:pt>
                <c:pt idx="5">
                  <c:v>4.96</c:v>
                </c:pt>
                <c:pt idx="6">
                  <c:v>4.96</c:v>
                </c:pt>
                <c:pt idx="7">
                  <c:v>0</c:v>
                </c:pt>
                <c:pt idx="8">
                  <c:v>4.96</c:v>
                </c:pt>
                <c:pt idx="9">
                  <c:v>6.2</c:v>
                </c:pt>
                <c:pt idx="10">
                  <c:v>6.2</c:v>
                </c:pt>
                <c:pt idx="11">
                  <c:v>4.96</c:v>
                </c:pt>
                <c:pt idx="12">
                  <c:v>3.72</c:v>
                </c:pt>
                <c:pt idx="13">
                  <c:v>1.2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9452934"/>
        <c:axId val="10689267"/>
      </c:barChart>
      <c:catAx>
        <c:axId val="794529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89267"/>
        <c:crossesAt val="0"/>
        <c:auto val="1"/>
        <c:lblAlgn val="ctr"/>
        <c:lblOffset val="100"/>
        <c:noMultiLvlLbl val="0"/>
      </c:catAx>
      <c:valAx>
        <c:axId val="10689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5293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915070441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6</c:v>
                </c:pt>
                <c:pt idx="11">
                  <c:v>9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44</c:v>
                </c:pt>
                <c:pt idx="1">
                  <c:v>1.44</c:v>
                </c:pt>
                <c:pt idx="2">
                  <c:v>4.32</c:v>
                </c:pt>
                <c:pt idx="3">
                  <c:v>4.32</c:v>
                </c:pt>
                <c:pt idx="4">
                  <c:v>2.88</c:v>
                </c:pt>
                <c:pt idx="5">
                  <c:v>2.88</c:v>
                </c:pt>
                <c:pt idx="6">
                  <c:v>2.88</c:v>
                </c:pt>
                <c:pt idx="7">
                  <c:v>0</c:v>
                </c:pt>
                <c:pt idx="8">
                  <c:v>2.88</c:v>
                </c:pt>
                <c:pt idx="9">
                  <c:v>3.6</c:v>
                </c:pt>
                <c:pt idx="10">
                  <c:v>3.6</c:v>
                </c:pt>
                <c:pt idx="11">
                  <c:v>2.88</c:v>
                </c:pt>
                <c:pt idx="12">
                  <c:v>2.16</c:v>
                </c:pt>
                <c:pt idx="13">
                  <c:v>0.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1582212"/>
        <c:axId val="31572128"/>
      </c:barChart>
      <c:catAx>
        <c:axId val="515822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72128"/>
        <c:crossesAt val="0"/>
        <c:auto val="1"/>
        <c:lblAlgn val="ctr"/>
        <c:lblOffset val="100"/>
        <c:noMultiLvlLbl val="0"/>
      </c:catAx>
      <c:valAx>
        <c:axId val="31572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22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F3C1-217E-4DF2-899F-B33F6D9CEC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6F0-B56E-4112-8225-B38D691B3E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1BD-6A23-4BC7-9E50-5ACFE965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A1C-C9EC-40BF-BC90-A91AA4DB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85D-5D5D-4A1D-BC67-E35800B5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8E4-17FB-4BBF-BE4F-1496C44E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503-5E8A-405E-92EE-D6E79EB8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C92-B891-4B60-833D-77DA594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D1C-E6E6-4131-B21F-8A799CB6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A6E-3E7A-4AF3-8D08-461227A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B6E-BE3C-420E-A1E1-E206372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51A-535B-4510-BBD7-3D1A27C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64-D31B-4CD8-8141-D22E190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466-7697-42D6-90B8-F5CB1B8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2E9B-8B08-42E1-8CF4-434CABF5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4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5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6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8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E SEN. FILINTO MULLER  ANGÉLICA 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MIRKO DONISETE RODRIGUES BAR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00040" y="2214720"/>
          <a:ext cx="81183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4" descr=""/>
          <p:cNvPicPr/>
          <p:nvPr/>
        </p:nvPicPr>
        <p:blipFill>
          <a:blip r:embed="rId5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36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428920" y="5143680"/>
          <a:ext cx="3811680" cy="11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4" descr=""/>
          <p:cNvPicPr/>
          <p:nvPr/>
        </p:nvPicPr>
        <p:blipFill>
          <a:blip r:embed="rId5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4" descr=""/>
          <p:cNvPicPr/>
          <p:nvPr/>
        </p:nvPicPr>
        <p:blipFill>
          <a:blip r:embed="rId5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THIAGO DA SILVA N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571680" y="2214720"/>
          <a:ext cx="81007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3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5000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0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858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7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4" descr=""/>
          <p:cNvPicPr/>
          <p:nvPr/>
        </p:nvPicPr>
        <p:blipFill>
          <a:blip r:embed="rId5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Quim/ Lit/ Fil/ Soc/ Ed. Rel/ Prod. Int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 His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70,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29,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Hist/ Fil/ Soc/ Ed. Rel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Ed. Fís/ Artes/ Port/ 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64,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35,5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Fís/ Geo/ Inglês/ Ciências/ Quim/ Fil/ Soc/ Ed. Rel.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 / Fís/ L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9,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0,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A PATRÍCIA BOGAZ TREV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357120" y="2214720"/>
          <a:ext cx="8286840" cy="2928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2428920" y="5214960"/>
          <a:ext cx="3811680" cy="116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214960"/>
                    <a:ext cx="3811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57160" y="2214720"/>
          <a:ext cx="71438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2643120" y="5143680"/>
          <a:ext cx="3811680" cy="126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143680"/>
                    <a:ext cx="381168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7" descr=""/>
          <p:cNvPicPr/>
          <p:nvPr/>
        </p:nvPicPr>
        <p:blipFill>
          <a:blip r:embed="rId5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285840" y="214308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19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571840" y="5072040"/>
          <a:ext cx="3811320" cy="123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5072040"/>
                    <a:ext cx="38113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7" descr=""/>
          <p:cNvPicPr/>
          <p:nvPr/>
        </p:nvPicPr>
        <p:blipFill>
          <a:blip r:embed="rId5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SEDMS</cp:lastModifiedBy>
  <dcterms:modified xsi:type="dcterms:W3CDTF">2009-07-24T20:18:18Z</dcterms:modified>
  <cp:revision>52</cp:revision>
  <dc:subject/>
  <dc:title>EE LUIZ SOARES ANDRADE  NOVA ANDRADINA - MS</dc:title>
</cp:coreProperties>
</file>